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D4B-94CA-40DA-8BAF-F8EFDA24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510-04E6-46F4-8F76-171A0A7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63E-2FC9-4E67-82AD-582C69A4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884-37F6-4B14-8649-B88181F5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E5B3-2D1B-453D-9C90-2C59DD3A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48C-5874-4B99-B97C-3BD828A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176C-8F9C-4F40-B13F-4F0270F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DE4C-E7D1-4E66-9C3C-5DC31E34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2D6-4DB0-42B7-9084-7B4E844E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DA2D-FF70-4193-90E6-E43175B4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C72-31E6-4539-B5B5-729E5BC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929-455A-400C-93E2-A9A9C73C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A643-A6F1-4A39-B6BB-2B119F45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212C-58DB-43BE-BFEC-C098A06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04B-B780-4E38-BFA9-32BBE20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38AA-A250-4E5B-8571-384E088D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C4A-4DAE-466A-8FA0-C1B82481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937-D78C-43E5-9470-B739A3B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ACE-6529-436C-828F-185F653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074-ED24-4AD0-889D-D2046B7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1E3-A4A5-4942-97A9-D46B1B9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8B6-E197-4F1B-8055-0D6A38E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E56-C1D1-4DED-83DA-CECCA23A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35C-6BCD-4811-B03D-105DE96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4FBE-C0B0-4271-A0ED-90EAC3BF3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729-C5DF-47BF-93CA-1B34AED6D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arl Harbor Attack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 Mur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brought the U.S. into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known as the day of infa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w that the Japanese were going to attack the U.S. eventually but we thought that the Japanese were going to attack the Philippin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nd order for a third wave to hit pearl harbor witch would have been much more destructive but the  wave was never s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third wave was sent then the U.S. would have taken us the full year to recover that the Japanese predi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of the U.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2,403 dead by the end of the attack and 1,282 were wou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7, 1941 at 7:53 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k four U.S. battle sh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 aircrafts were destroy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Jap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panese losses were minim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9 air craft’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5 servicemen that were killed or woun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m was captu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ctur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048120" cy="22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3429000" cy="278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310200" cy="244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962520" y="3962520"/>
            <a:ext cx="3200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ph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world war battle of the Pacific."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ww.nps.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ational park service, 7 Dec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2009. Web. 14 Dec. 2009. &lt;http://www.nps.gov/valr/index.htm&gt;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3:05Z</dcterms:created>
  <dc:creator>41333</dc:creator>
  <dc:description/>
  <dc:language>en-US</dc:language>
  <cp:lastModifiedBy>41333</cp:lastModifiedBy>
  <dcterms:modified xsi:type="dcterms:W3CDTF">2009-12-16T19:33:39Z</dcterms:modified>
  <cp:revision>4</cp:revision>
  <dc:subject/>
  <dc:title>Pearl Harbor Attack</dc:title>
</cp:coreProperties>
</file>